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gif" ContentType="image/gi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FE3B2-AF70-4C9E-B77B-B248177885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8BA79-0379-45DD-A275-5AB579CE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774FF5-8FFE-4188-9AE7-27B7DF5D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3CD797-DEAB-4685-8FFD-18D7EC1A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DC4675-528E-4A3A-8919-2229860C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66D844-3D1D-44A0-9974-FB73FA0B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27A752-2CB5-4694-BE8D-507DC9E0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BC16E4-BEF7-4425-9BBE-798967BD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D60476-6CD1-4D43-A6C1-424B0E4C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782B7E-CC2B-420B-8D7E-A1B77C44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323AFA-B76F-47C9-9BCF-78B5709C1F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5EFC1-5130-4965-9AE3-CD23791C75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03C80-F456-443E-9F4E-7F0847E0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D8A81-83F6-4CB6-9E87-C2E56F9E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B74B5-1ED2-487B-9FAF-27A8A86D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4BD61-7ED0-4F5F-A0A4-11CE3CFE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57D20-019B-4E0E-B168-A9D5AE6C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6EC9B-4FB0-4D92-B6EA-CEFD22F7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55D0F-2A01-4D6A-9692-708FB40E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08AD1-AA7F-4DFD-A513-4F29B942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CD2A0-3C4C-44E6-820C-9FC7E4B0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7A5E6-4CE2-4D2B-97D9-1B26D2BC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01AE7-D73C-4FE9-8FCF-0DE126A0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FCF02-33C6-42EA-B9B0-821B04CF08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5E5DA-2E7C-4F73-A112-CCF30FFAB4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4E017C-69E0-43F1-AF1B-DC04F19342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DD22AD-0318-4B8D-9974-F9E65DA0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3AE585-C719-434A-BB71-009AB77D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E812D9-B73E-4207-B0F7-67C61128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350087-3099-4CEE-A931-BD829955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279631-2EAE-4EA4-B3E5-699E5A97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2CDE4F-35FD-4D0E-BBD7-D3D8B740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059B9C-193D-4262-98F8-036D8603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C98048-4762-47B7-80C3-55E850D2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59E11-B26B-45F6-8AFC-5B46FB18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1C356F-9D07-46FD-BC38-2600AD43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C28D35-C70D-48CB-9AB9-C599832D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666645-1BE5-49E5-B876-14B33A048D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798DB1-ECF4-4B40-BB55-D0D0B740D6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3E5173-2C4F-4D5E-9B24-511C46AE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3B13A6-E06D-4672-8194-8174B8DC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EF855-DEAC-4C0A-B890-0D266E20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C80899-1759-45AB-9AF4-B5E8CB58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39C76-5DAA-423A-B1D9-65B8CF8B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DF3180-3FAF-4A0D-8469-DB2E89D2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57B8A-2A5F-4A15-8BD0-48CEF8D9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3F007F-D6D5-4EFA-989C-C27DAE69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B8D55E-5A11-43FB-BBDC-F397EA09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1EC4C-3F79-48C6-BC70-6D2E9474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BD405-C638-4DC9-A2D3-DCE137FA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D9FA43-B4A0-4127-BFFF-102DAC5CF5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03482-D6FB-40BD-893D-6ABAF7A639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5F7D1-9386-4496-8004-8AE1014F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D8C03-0053-4B9D-89EA-626B25F0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3B783-2C09-4DB4-84FC-4DFBD0A9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A8BFB-DC96-4E73-8116-1270835D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BBDFC-2C4E-4CBD-9F0C-5AC5C9EA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B1286-1589-4E95-BADE-435B6C0B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D673C-9F89-42BE-AC8D-80ED3359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3744A-CC3E-40CC-B26B-1C7846E7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C657E-6E95-4F45-8C2F-1A325054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BC562-E75D-4878-9B2A-BA8D395D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ECC64-26A4-4E42-952E-9B31E29F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A5DD6-744D-478D-966F-6F6BBEE03F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E7C92-9B10-4B39-B0A6-9DBA7816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BB2D3-E11B-4C56-B487-DEBBF89F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2203B-8022-4755-8CA6-EE1A6681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B7090-A9BB-473C-8666-E42D6E7E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FF7F5-0B87-4A72-8CE1-72CEC18B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F6710-4F01-48CC-A77A-A507A088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7CF68-382D-4DC4-ACF8-DBAA4F2F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A0712-7CF5-4EF6-9728-CFDD8F78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5BE40-74F4-43D0-B16D-96A5ECE0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E836F-E484-4CFE-B012-4390C4AD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CEC9E-6A95-4C7D-841D-F448B1C1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608CC-36E7-4BE6-A2EA-DCE1AE7A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B5E75-F787-4861-82F5-3E928757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39A97-1EBD-4C8F-B0D8-F097E829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233C3-220D-4D75-AE3E-EE89EA91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AB874-C215-4EA5-8673-38FA4FC7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6DE9D-256B-40B6-9977-D1DAD66D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2B4B8-B79A-4CBE-B77A-DEF527C2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B47E6-A7E0-4B12-8845-7ADF2275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53123-ED53-49B8-8E65-A8B4BADE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5FB68-0EF6-43A0-93C1-A9EFF2CD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6F93D-1F12-47E3-B858-F551C0AF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8E564-B2F7-4F98-8833-C3EF580A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B8E74-4E55-4149-8312-C10A4039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6C307-30DE-4222-AAD9-FBF8312D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89D8A-14A9-46F4-B050-38A4F56F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03D8F-225F-4C95-8740-E8E460B1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3F709-F194-4637-8ADA-2FB1DE80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E7A87-E7BA-47BA-A8E1-EA77B644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03C91-1F7C-4427-B1FB-BD4393A0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4DBB0-865F-4EC5-BA40-181AE1FE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0E6FE-E114-4B65-B89D-B43CAFE7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2554D-6F92-4CE1-9E95-86512F4C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F657F-8B43-47D7-88E0-A142888F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6EAEE-64A2-45BC-AD3C-BA0F5F2B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16DAD-40EA-4896-A468-E0E034F5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3DBB6-A846-4352-9658-DC1F2269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30403-ED80-4E0F-8636-A023EB57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A5F3D-4684-4C4C-8307-605C47D7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10216-68B4-411D-8D19-BFFDB274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BF3CF1-B022-4956-A151-2EFFD7E7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8D91E1-2F4E-4287-931B-185C9F14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082FCE-E46A-4DA6-A8FE-340A21AA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57D20-F4E1-41FB-B0DA-A372D5F4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B328C7-56E7-443E-8D60-7DBF9A04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50C3CB-7B3D-43A8-9F5B-4A403531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0D904-D9FA-4453-9F6F-00C4C510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62934-C9A9-485F-ABCD-CD938741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79F52-4794-44A2-9E4E-BE31056B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BF172-868C-4C3D-92A0-8C13A677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CC4A6-1F20-4AC9-BC4B-A8049E20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ED8638-7AEA-4DCD-A7F5-1CD96710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E624E1-59C4-45FC-B2EA-E6732ED9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B97E81-5359-4FAA-BAF7-A16C9AFA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C6859C-6149-4AF4-86C8-55167EBD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50B356-BC93-4F25-B688-8DFD1B57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D3780E-5FF2-4679-A038-E4C7831C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2D8680-506C-4B4E-9434-E059E9D6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01450C-4AB5-4B12-82DA-62F33F46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84AAC-2795-4D77-A69E-710C7BA4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289E89-0894-4C23-8800-3EDAE2F0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8968BF-7228-47DB-A8E3-F970E9DB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C12198-F959-4B4B-A46B-278764E6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68EE5E-667E-4C19-B47D-5510DE78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4EF590-446A-4A04-96CD-65D51730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277345-0E21-4D64-B594-F94544B8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AE9EA1-BBE7-4038-A6D8-2F32AF6B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604262-A9F7-4A63-99A4-F9DEEB7B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29B091-19C7-4F23-AE6E-990CBA34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CB24E7-34F4-420D-959B-DC5E717B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6B4E7-5A2A-40F8-8D15-8AB76EC2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E646E4-ADE2-42A8-8A20-B8A56EB1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0B7F6-639E-4E32-BDED-2400F78B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ECACD2-AA08-4B34-A165-2D4FD0B5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C46E76-73D9-47A6-BE16-C1FFB6B3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4BB4D5-EF1D-4BB6-88BB-3CCD3F1D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B63466-9936-4079-94FB-844EE060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7CDB30-EF11-4C54-8649-F9EF1AAD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0F9528-30E4-4C01-9A8A-5BE8296C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2D5961-CDA0-4353-B541-98F4C225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06EBCC-8D1E-4106-AF7E-DEE9E998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B9F40-277F-4F05-A2D4-7EA24D02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9EBA15-93A0-44BC-95F9-299DC0A0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1E661E-5A2F-4314-9A43-752AD63D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39A850-0C49-428E-9170-B7986A81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792E3A-9D8A-4017-AA28-124FD279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96E4E2-ED4B-4A03-B79D-B902E1A7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D35DF4-A733-4C7F-9BFC-9E16CB89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B16E42-21F1-4A4E-BD27-082247DE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8F6920-E9E7-4D1A-95FD-29FCD588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77C63E-177D-4FEB-A1CD-8D11386B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E02048-7F29-4BE7-BE04-60F21959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1877F-84B2-4689-B771-2C40672A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97DAC7-687F-4C48-B772-6589A888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3DAFCB-DABA-4648-B342-868076F9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9A4E5C-EF68-4891-A095-7979AE41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BA7197-5946-44A3-8E30-EB529666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25397B-944E-474D-B5E3-6D7AE24A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461230-1515-4957-AD51-372B6297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29FA61-43E5-49C5-94D3-259F554F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E3DDCA-B966-4858-909B-E935ED3C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FFAAB9-799A-41CB-A13B-FB51C7C7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2113D8-7F9C-4012-AC35-60CA8392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7BFCAF-C2AD-4F81-9667-B1D51D8012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1A2380-1543-4EE2-BAD2-34A4DEC5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1D8519-9B30-4838-BD33-2AC92E47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75328F-A740-44F1-869F-73C2BD4B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5BA61D-5612-4F52-9459-6473833D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DE7447-3646-43D5-B7E3-8BF70ABB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D951BB-370E-47F7-897B-DD1B6D64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61C0A8-A625-425E-8553-D47BC002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A105A7-54B2-487C-A6E6-E51355A8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D7ECDA-69C2-41D1-8F44-30EA403A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1DD2CF-4098-4AD4-A85F-6F5EB399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E97BFB-2353-4F43-907A-D449910F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D66364-85F1-4354-866C-CAF48EA2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CD0F71-3F24-4080-A80B-55410DB4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BAC489-011E-457C-9417-AEC11641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9D298B-B8A9-4F68-AD1D-E367196A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30A572-29BF-4D67-87AE-988BABED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DE7E4F-9EBE-438E-9F41-3AABDDBE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4227FA-738B-40AF-85A7-1DDC2359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793A8D-228A-4560-9370-855DB634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968204-2321-4C1B-9987-6B6CA6EA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FC67E6-4E81-4DCD-BF7C-E5F89C00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E9F3EB-F1EB-48D0-A002-2F6BD6D4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D3AC43-98E1-48C7-8E79-EBC4ED84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F2F323-73C7-4436-A491-7CD57083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A66E0E-7744-48E5-A839-9EC67B83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237B5F-CD0A-4D6F-96C8-4CD7A0B4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F38162-3E00-41B6-B61A-786B829D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45651B-6CE3-4A23-AD32-491A6342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A10342-F6BD-4C19-8914-490F3EE9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27F375-9478-4615-A3ED-D0CFC387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47921F-5161-4702-B61A-B1374A0C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0B9FE0-B01A-4E1A-ABA7-C3AD2B12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75FE57-D735-40AB-9368-6EAD55BD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8EF27A-1AB1-46F9-A504-7453802E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CF68D2-FC61-4FD0-AD6D-0F5A85B9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9FB144-84B9-4388-871D-0570E624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1382E0-EEBE-4806-8BCB-1481F110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F3B0F1-9B51-4DFF-8624-19E679C1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3E0623-E4D9-450B-AAA1-98BA4EA8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D16DCD-468B-4933-A987-760A5D93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46F915-C367-4DEC-BC58-A4E8F827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F0B6D1-1AD4-4D9D-ABE5-905637A8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84664B-D172-478D-BCFF-53F77858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1C5E8-FB89-4721-9122-A1F47B5D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4DC86C-9246-4234-9C19-2BB03CBE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D3B7CC-FCEF-4C75-BB1F-9F375391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A05391-C4B2-4E00-B2FF-315FB930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1A5C7E-C77B-4B64-918C-05781776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D99606-ECAB-45EC-9323-F8688665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FACD04-30CF-42A7-AC91-A7E0526A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D81FCB-B802-4338-9BD3-A6E3C8DA76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BD31A-2511-452A-AD06-05230DF33D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4ED3C-F1CC-4E57-A28D-D8A3EEF6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233F9-DDAD-4D3B-8726-CAFA71F7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399F1-3E7F-4C45-9618-806CB832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FA26D-CE10-4576-9B2E-EB353E1F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23992-6AD0-49C0-AC3F-148B85ED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25D96-1AF8-41A7-8A07-D4F2CFA8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8D8A8-0987-4BC7-BFB4-6FFB9718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C8EB5-CDC7-4F4D-9306-9297E1D4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88AF2-A298-42EC-B23E-18C54218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A6C9E-2959-43B0-BDDE-4A16C24A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B239F-88B8-49DB-B22A-B2534E07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EA3CC-8503-4442-B774-64F1AE6CB4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9AC3B7-55AE-4921-BA9A-70A919F017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B4354-D053-4DBD-A199-18B0489A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B13636-EA67-4D2A-BDBA-494240C6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F34322-09A2-49F2-9ACF-72008A6C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EDA112-272F-4948-84BE-5E161822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FB2A7F-21B3-4AEF-B906-6CDBBD2E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85B1C6-F9FB-4B9F-B20D-DAB25B66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65FDE3-AC40-4818-A290-C97DD66E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E14987-B350-44E8-B88F-4263B8D0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BA3F83-40B9-4816-A096-8D2A22FA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6D291A-7C5A-4EB1-AAA4-FDED1F47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20B778-2A17-45CB-A7C3-1E11643C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F76FF-918C-4179-B471-BF403EB9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76A423-6B58-4C1B-9670-D5E0543A55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8D6722-271F-4FB2-A32B-8848E6C030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9EE058-F116-4294-8E92-9F7E8A15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A01AE4-7683-4B7C-B373-F5536158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1290D2-FAA2-42C7-BB01-AD5CC4B4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6A8A79-E12E-430D-B152-5684B321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FD9A7B-1A54-468C-8092-C50DD36D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570DDD-F7CE-4411-8DA7-6F58BED5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8695F3-748B-4944-A250-D166357C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4B5DFD-FC4B-4BBE-8860-0CF21CA8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86748-9552-4659-A9D9-3DFD1883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EA4438-ED37-44E4-B4BB-DAAFCB25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F1B47F-1BA1-441E-A0FA-61C3F000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221969-2B65-4E4D-A513-2AC137CABB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E38CE-335E-4112-AD22-BA43E0F066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17315-1D7A-43A7-BBC6-70B1865A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2DC02-D344-4FF2-8A3A-2C817F72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4035F-7CC9-436D-BA5C-494657E1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F6A8B-67ED-4BC4-BF60-115A967F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128D8-6AE9-486B-B1C7-EEBC5199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67CBF-A991-4935-B6F9-11027EBD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153A7-48B3-4BA1-8E59-5954C5AC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18843-9396-42EC-BDC1-29E73787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AABA5-BA75-4834-81C8-E935D6C0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C5839-9445-42AE-A697-B850A2A8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7ADD1-15E9-4332-845B-3F87A3EF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81F36-8C13-4E9B-96CA-60D7E6E6A2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CA4152-E24D-4C02-BB8B-00142CB08A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E87F05-343D-44DE-9EE5-69BB56F2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FA654D-5DA5-4748-B4AD-91065861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B756CF-42E7-42F6-9D35-AAAB59F5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C5F178-EDF4-48B1-B1DA-E09AC114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75E00-55B8-4DEE-8836-43A0B34B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93F336-67CD-47DD-AA27-EC3476E8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1C59F3-EF01-4B2C-BE72-9C4C6BEE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D56A12-1F3F-4A88-A0C9-D60753DF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4DF954-B767-4054-BC92-42E79B95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E13022-E6D5-458F-85CD-B1FC813C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6C5921-D1BE-49E6-B9C8-5C0B5393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FFAF21-BAB4-4DA5-ADD3-3ED8ED708C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1C3193-A59C-40E4-9128-33C9ED5D3E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60B7E6-5C3A-4450-917C-26C3FDA6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92941E-F33E-4265-BDA0-8732D309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6222-4BC6-4C2A-AF01-968E2E251D4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45E3-69E3-4E2C-AC0A-A0C6A85DE7B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35D6-92C6-4D73-9C3B-D506211BC3C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678E-1467-464C-AAFC-ABB60C28CD5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B68B-51C8-4E3C-A843-796C12C70CF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C854-D7F3-488D-A8AB-55E6CF22128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B0FB-F604-441A-A3D3-B46D33A8235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CFDD-D72F-4D39-813C-772C3834562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86E6-77DF-4732-B6DF-8B925A9B78C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D84F-13F9-4AC2-9CC3-117DD1CBB05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C061-E480-4C3C-9A49-F0B4479A0EB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451B-E6FF-4816-A8FC-4D184287487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48F7-F708-4FA3-8D8F-056004E5DE2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DA90-6B7D-4445-B1DA-A6590D235DC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39B7-624E-494F-A3D3-A4CD8F926F6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695E-5615-4676-B01A-A0AAA181C04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9DEB-1793-4767-B5E8-EE847825183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6286-D735-4E2E-BB83-70BB6772C42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FB28-CA3F-4630-9968-F51B5B77BE3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69AE-78EF-485F-8300-69FE0AA267F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0DB1-65AD-43BB-A7E3-01EC93435FD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F243-5D19-4FF0-A6BF-C3E0D3FEB32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96BA-32C6-4004-97CE-C1F6FBFAB66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D50F-D5E5-423C-A729-CCCD7BB4934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3238560" y="2703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画 垂 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929120" cy="360"/>
            <a:chOff x="2284560" y="2448000"/>
            <a:chExt cx="492912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92912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929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239760" y="174456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行四边形和梯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Rectangle 21"/>
          <p:cNvSpPr/>
          <p:nvPr/>
        </p:nvSpPr>
        <p:spPr>
          <a:xfrm>
            <a:off x="930240" y="11736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创设情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3"/>
          <p:cNvSpPr/>
          <p:nvPr/>
        </p:nvSpPr>
        <p:spPr>
          <a:xfrm>
            <a:off x="1762200" y="1054080"/>
            <a:ext cx="287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提问：什么叫做垂线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4"/>
          <p:cNvSpPr/>
          <p:nvPr/>
        </p:nvSpPr>
        <p:spPr>
          <a:xfrm>
            <a:off x="2954160" y="3094200"/>
            <a:ext cx="1341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举例说一说生活中的垂线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"/>
          <p:cNvSpPr/>
          <p:nvPr/>
        </p:nvSpPr>
        <p:spPr>
          <a:xfrm>
            <a:off x="1608120" y="4429080"/>
            <a:ext cx="218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怎样画垂线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矩形 7"/>
          <p:cNvSpPr/>
          <p:nvPr/>
        </p:nvSpPr>
        <p:spPr>
          <a:xfrm>
            <a:off x="1428840" y="185724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果两条直线相交成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直角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就说这两条直线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互相垂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其中一条直线叫做另一条直线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垂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1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5" name="Rectangle 21"/>
          <p:cNvSpPr/>
          <p:nvPr/>
        </p:nvSpPr>
        <p:spPr>
          <a:xfrm>
            <a:off x="1599840" y="11592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自主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3"/>
          <p:cNvSpPr/>
          <p:nvPr/>
        </p:nvSpPr>
        <p:spPr>
          <a:xfrm>
            <a:off x="3102120" y="711360"/>
            <a:ext cx="126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直线上一点画这条直线的垂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4092480" y="1415880"/>
            <a:ext cx="360" cy="2232360"/>
            <a:chOff x="4092480" y="1415880"/>
            <a:chExt cx="360" cy="2232360"/>
          </a:xfrm>
        </p:grpSpPr>
        <p:sp>
          <p:nvSpPr>
            <p:cNvPr id="1028" name="Line 4"/>
            <p:cNvSpPr/>
            <p:nvPr/>
          </p:nvSpPr>
          <p:spPr>
            <a:xfrm>
              <a:off x="4092480" y="1415880"/>
              <a:ext cx="0" cy="22323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 txBox="1"/>
            <p:nvPr/>
          </p:nvSpPr>
          <p:spPr>
            <a:xfrm>
              <a:off x="4092480" y="1415880"/>
              <a:ext cx="360" cy="223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Group 5"/>
          <p:cNvGrpSpPr/>
          <p:nvPr/>
        </p:nvGrpSpPr>
        <p:grpSpPr>
          <a:xfrm>
            <a:off x="4932360" y="1343160"/>
            <a:ext cx="1584360" cy="2305080"/>
            <a:chOff x="4932360" y="1343160"/>
            <a:chExt cx="1584360" cy="2305080"/>
          </a:xfrm>
        </p:grpSpPr>
        <p:sp>
          <p:nvSpPr>
            <p:cNvPr id="1031" name="AutoShape 6"/>
            <p:cNvSpPr/>
            <p:nvPr/>
          </p:nvSpPr>
          <p:spPr>
            <a:xfrm>
              <a:off x="4932360" y="1343160"/>
              <a:ext cx="1584360" cy="2305080"/>
            </a:xfrm>
            <a:prstGeom prst="rtTriangl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AutoShape 7"/>
            <p:cNvSpPr/>
            <p:nvPr/>
          </p:nvSpPr>
          <p:spPr>
            <a:xfrm>
              <a:off x="5139000" y="2111040"/>
              <a:ext cx="896040" cy="12801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Group 8"/>
          <p:cNvGrpSpPr/>
          <p:nvPr/>
        </p:nvGrpSpPr>
        <p:grpSpPr>
          <a:xfrm>
            <a:off x="1892160" y="3575160"/>
            <a:ext cx="4754880" cy="129960"/>
            <a:chOff x="1892160" y="3575160"/>
            <a:chExt cx="4754880" cy="129960"/>
          </a:xfrm>
        </p:grpSpPr>
        <p:grpSp>
          <p:nvGrpSpPr>
            <p:cNvPr id="1034" name=""/>
            <p:cNvGrpSpPr/>
            <p:nvPr/>
          </p:nvGrpSpPr>
          <p:grpSpPr>
            <a:xfrm>
              <a:off x="1892160" y="3640680"/>
              <a:ext cx="4754880" cy="360"/>
              <a:chOff x="1892160" y="3640680"/>
              <a:chExt cx="4754880" cy="360"/>
            </a:xfrm>
          </p:grpSpPr>
          <p:sp>
            <p:nvSpPr>
              <p:cNvPr id="1035" name="Line 9"/>
              <p:cNvSpPr/>
              <p:nvPr/>
            </p:nvSpPr>
            <p:spPr>
              <a:xfrm>
                <a:off x="1892160" y="3640680"/>
                <a:ext cx="47548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 txBox="1"/>
              <p:nvPr/>
            </p:nvSpPr>
            <p:spPr>
              <a:xfrm>
                <a:off x="1892160" y="3640680"/>
                <a:ext cx="4754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Oval 10"/>
            <p:cNvSpPr/>
            <p:nvPr/>
          </p:nvSpPr>
          <p:spPr>
            <a:xfrm>
              <a:off x="4028040" y="3575160"/>
              <a:ext cx="137880" cy="1299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Text Box 20"/>
          <p:cNvSpPr/>
          <p:nvPr/>
        </p:nvSpPr>
        <p:spPr>
          <a:xfrm>
            <a:off x="2793960" y="30733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垂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9" name="Group 21"/>
          <p:cNvGrpSpPr/>
          <p:nvPr/>
        </p:nvGrpSpPr>
        <p:grpSpPr>
          <a:xfrm>
            <a:off x="3803760" y="3285720"/>
            <a:ext cx="288720" cy="362520"/>
            <a:chOff x="3803760" y="3285720"/>
            <a:chExt cx="288720" cy="362520"/>
          </a:xfrm>
        </p:grpSpPr>
        <p:grpSp>
          <p:nvGrpSpPr>
            <p:cNvPr id="1040" name=""/>
            <p:cNvGrpSpPr/>
            <p:nvPr/>
          </p:nvGrpSpPr>
          <p:grpSpPr>
            <a:xfrm>
              <a:off x="3803760" y="3286080"/>
              <a:ext cx="360" cy="362160"/>
              <a:chOff x="3803760" y="3286080"/>
              <a:chExt cx="360" cy="362160"/>
            </a:xfrm>
          </p:grpSpPr>
          <p:sp>
            <p:nvSpPr>
              <p:cNvPr id="1041" name="Line 22"/>
              <p:cNvSpPr/>
              <p:nvPr/>
            </p:nvSpPr>
            <p:spPr>
              <a:xfrm flipV="1">
                <a:off x="3803760" y="3286080"/>
                <a:ext cx="0" cy="362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 txBox="1"/>
              <p:nvPr/>
            </p:nvSpPr>
            <p:spPr>
              <a:xfrm rot="16200000">
                <a:off x="3622680" y="3466800"/>
                <a:ext cx="362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3803760" y="3285720"/>
              <a:ext cx="288720" cy="360"/>
              <a:chOff x="3803760" y="3285720"/>
              <a:chExt cx="288720" cy="360"/>
            </a:xfrm>
          </p:grpSpPr>
          <p:sp>
            <p:nvSpPr>
              <p:cNvPr id="1044" name="Line 23"/>
              <p:cNvSpPr/>
              <p:nvPr/>
            </p:nvSpPr>
            <p:spPr>
              <a:xfrm>
                <a:off x="3803760" y="3286080"/>
                <a:ext cx="288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 txBox="1"/>
              <p:nvPr/>
            </p:nvSpPr>
            <p:spPr>
              <a:xfrm rot="16200000">
                <a:off x="3947760" y="3141360"/>
                <a:ext cx="360" cy="28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6" name="Text Box 15"/>
          <p:cNvSpPr/>
          <p:nvPr/>
        </p:nvSpPr>
        <p:spPr>
          <a:xfrm>
            <a:off x="3421440" y="3813120"/>
            <a:ext cx="167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把三角尺的一条直角边与已知直线重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16"/>
          <p:cNvSpPr/>
          <p:nvPr/>
        </p:nvSpPr>
        <p:spPr>
          <a:xfrm>
            <a:off x="2029680" y="4446720"/>
            <a:ext cx="521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楷体简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楷体简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楷体简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沿着已知直线移动三角尺，使三角尺的直角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顶点与直线上的已知点重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17"/>
          <p:cNvSpPr/>
          <p:nvPr/>
        </p:nvSpPr>
        <p:spPr>
          <a:xfrm>
            <a:off x="1964160" y="5435640"/>
            <a:ext cx="512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楷体简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楷体简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楷体简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沿另一条直角边画一条经过已知点的直线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所画直线与已知直线互相垂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八边形 7"/>
          <p:cNvSpPr/>
          <p:nvPr/>
        </p:nvSpPr>
        <p:spPr>
          <a:xfrm>
            <a:off x="314280" y="70812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44 0 L -0.086458 -0.000278 E">
                                      <p:cBhvr>
                                        <p:cTn id="36" dur="2000" fill="hold"/>
                                        <p:tgtEl>
                                          <p:spTgt spid="10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Text Box 2"/>
          <p:cNvSpPr/>
          <p:nvPr/>
        </p:nvSpPr>
        <p:spPr>
          <a:xfrm>
            <a:off x="3749760" y="695160"/>
            <a:ext cx="1247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直线外一点画这条直线的垂线，用三角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该怎样画呢？试一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Group 3"/>
          <p:cNvGrpSpPr/>
          <p:nvPr/>
        </p:nvGrpSpPr>
        <p:grpSpPr>
          <a:xfrm>
            <a:off x="1187280" y="2565360"/>
            <a:ext cx="4319640" cy="2088000"/>
            <a:chOff x="1187280" y="2565360"/>
            <a:chExt cx="4319640" cy="2088000"/>
          </a:xfrm>
        </p:grpSpPr>
        <p:sp>
          <p:nvSpPr>
            <p:cNvPr id="1052" name="Oval 4"/>
            <p:cNvSpPr/>
            <p:nvPr/>
          </p:nvSpPr>
          <p:spPr>
            <a:xfrm>
              <a:off x="3130560" y="2565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"/>
            <p:cNvGrpSpPr/>
            <p:nvPr/>
          </p:nvGrpSpPr>
          <p:grpSpPr>
            <a:xfrm>
              <a:off x="1187280" y="4653000"/>
              <a:ext cx="4319640" cy="360"/>
              <a:chOff x="1187280" y="4653000"/>
              <a:chExt cx="4319640" cy="360"/>
            </a:xfrm>
          </p:grpSpPr>
          <p:sp>
            <p:nvSpPr>
              <p:cNvPr id="1054" name="Line 5"/>
              <p:cNvSpPr/>
              <p:nvPr/>
            </p:nvSpPr>
            <p:spPr>
              <a:xfrm>
                <a:off x="1187280" y="4653000"/>
                <a:ext cx="43196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 txBox="1"/>
              <p:nvPr/>
            </p:nvSpPr>
            <p:spPr>
              <a:xfrm>
                <a:off x="1187280" y="4653000"/>
                <a:ext cx="431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6" name="Group 6"/>
          <p:cNvGrpSpPr/>
          <p:nvPr/>
        </p:nvGrpSpPr>
        <p:grpSpPr>
          <a:xfrm>
            <a:off x="3203640" y="2060640"/>
            <a:ext cx="1655640" cy="2592360"/>
            <a:chOff x="3203640" y="2060640"/>
            <a:chExt cx="1655640" cy="2592360"/>
          </a:xfrm>
        </p:grpSpPr>
        <p:sp>
          <p:nvSpPr>
            <p:cNvPr id="1057" name="AutoShape 7"/>
            <p:cNvSpPr/>
            <p:nvPr/>
          </p:nvSpPr>
          <p:spPr>
            <a:xfrm>
              <a:off x="3203640" y="2060640"/>
              <a:ext cx="1655640" cy="2592360"/>
            </a:xfrm>
            <a:prstGeom prst="rtTriangl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AutoShape 8"/>
            <p:cNvSpPr/>
            <p:nvPr/>
          </p:nvSpPr>
          <p:spPr>
            <a:xfrm>
              <a:off x="3419640" y="2924280"/>
              <a:ext cx="936360" cy="144000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3205080" y="2637000"/>
            <a:ext cx="1800" cy="2017440"/>
            <a:chOff x="3205080" y="2637000"/>
            <a:chExt cx="1800" cy="2017440"/>
          </a:xfrm>
        </p:grpSpPr>
        <p:sp>
          <p:nvSpPr>
            <p:cNvPr id="1060" name="Line 11"/>
            <p:cNvSpPr/>
            <p:nvPr/>
          </p:nvSpPr>
          <p:spPr>
            <a:xfrm>
              <a:off x="3205080" y="2637000"/>
              <a:ext cx="1800" cy="201744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 txBox="1"/>
            <p:nvPr/>
          </p:nvSpPr>
          <p:spPr>
            <a:xfrm>
              <a:off x="3205080" y="2637000"/>
              <a:ext cx="1800" cy="20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Group 10"/>
          <p:cNvGrpSpPr/>
          <p:nvPr/>
        </p:nvGrpSpPr>
        <p:grpSpPr>
          <a:xfrm>
            <a:off x="4568760" y="2104920"/>
            <a:ext cx="3748320" cy="1427400"/>
            <a:chOff x="4568760" y="2104920"/>
            <a:chExt cx="3748320" cy="1427400"/>
          </a:xfrm>
        </p:grpSpPr>
        <p:pic>
          <p:nvPicPr>
            <p:cNvPr id="1063" name="Picture 11" descr="000"/>
            <p:cNvPicPr/>
            <p:nvPr/>
          </p:nvPicPr>
          <p:blipFill>
            <a:blip r:embed="rId1"/>
            <a:stretch/>
          </p:blipFill>
          <p:spPr>
            <a:xfrm>
              <a:off x="7308360" y="2421000"/>
              <a:ext cx="1008720" cy="11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Text Box 12"/>
            <p:cNvSpPr/>
            <p:nvPr/>
          </p:nvSpPr>
          <p:spPr>
            <a:xfrm>
              <a:off x="5712480" y="210492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说一说是怎么画的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AutoShape 13"/>
            <p:cNvSpPr/>
            <p:nvPr/>
          </p:nvSpPr>
          <p:spPr>
            <a:xfrm>
              <a:off x="4568760" y="2104920"/>
              <a:ext cx="2881440" cy="504000"/>
            </a:xfrm>
            <a:prstGeom prst="wedgeRoundRectCallout">
              <a:avLst>
                <a:gd name="adj1" fmla="val 43935"/>
                <a:gd name="adj2" fmla="val 78212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Picture 2" descr="E:\2017秋上·黄倩\其他\人\蜜蜂.gif蜜蜂"/>
          <p:cNvPicPr/>
          <p:nvPr/>
        </p:nvPicPr>
        <p:blipFill>
          <a:blip r:embed="rId1"/>
          <a:stretch/>
        </p:blipFill>
        <p:spPr>
          <a:xfrm>
            <a:off x="7802640" y="3138480"/>
            <a:ext cx="743040" cy="81900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3"/>
          <p:cNvSpPr/>
          <p:nvPr/>
        </p:nvSpPr>
        <p:spPr>
          <a:xfrm>
            <a:off x="3518640" y="838080"/>
            <a:ext cx="185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从直线外一点</a:t>
            </a: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EU-B1X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宋体"/>
              </a:rPr>
              <a:t>，到这条直线画几条线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宋体"/>
              </a:rPr>
              <a:t>量一量所画线段的长度，哪一条最短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1552680" y="4289400"/>
            <a:ext cx="3240000" cy="360"/>
            <a:chOff x="1552680" y="4289400"/>
            <a:chExt cx="3240000" cy="360"/>
          </a:xfrm>
        </p:grpSpPr>
        <p:sp>
          <p:nvSpPr>
            <p:cNvPr id="1069" name="Line 4"/>
            <p:cNvSpPr/>
            <p:nvPr/>
          </p:nvSpPr>
          <p:spPr>
            <a:xfrm>
              <a:off x="1552680" y="4289400"/>
              <a:ext cx="32400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 txBox="1"/>
            <p:nvPr/>
          </p:nvSpPr>
          <p:spPr>
            <a:xfrm>
              <a:off x="1552680" y="4289400"/>
              <a:ext cx="324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1" name="Oval 5"/>
          <p:cNvSpPr/>
          <p:nvPr/>
        </p:nvSpPr>
        <p:spPr>
          <a:xfrm flipV="1">
            <a:off x="2975040" y="27176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Group 6"/>
          <p:cNvGrpSpPr/>
          <p:nvPr/>
        </p:nvGrpSpPr>
        <p:grpSpPr>
          <a:xfrm>
            <a:off x="2055600" y="2755800"/>
            <a:ext cx="2408400" cy="1533600"/>
            <a:chOff x="2055600" y="2755800"/>
            <a:chExt cx="2408400" cy="1533600"/>
          </a:xfrm>
        </p:grpSpPr>
        <p:grpSp>
          <p:nvGrpSpPr>
            <p:cNvPr id="1073" name=""/>
            <p:cNvGrpSpPr/>
            <p:nvPr/>
          </p:nvGrpSpPr>
          <p:grpSpPr>
            <a:xfrm>
              <a:off x="2055600" y="2759400"/>
              <a:ext cx="948960" cy="1529280"/>
              <a:chOff x="2055600" y="2759400"/>
              <a:chExt cx="948960" cy="1529280"/>
            </a:xfrm>
          </p:grpSpPr>
          <p:sp>
            <p:nvSpPr>
              <p:cNvPr id="1074" name="Line 7"/>
              <p:cNvSpPr/>
              <p:nvPr/>
            </p:nvSpPr>
            <p:spPr>
              <a:xfrm flipH="1">
                <a:off x="2055600" y="2759400"/>
                <a:ext cx="948600" cy="152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 txBox="1"/>
              <p:nvPr/>
            </p:nvSpPr>
            <p:spPr>
              <a:xfrm>
                <a:off x="2055960" y="2759400"/>
                <a:ext cx="948600" cy="152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3011400" y="2755800"/>
              <a:ext cx="719640" cy="1533240"/>
              <a:chOff x="3011400" y="2755800"/>
              <a:chExt cx="719640" cy="1533240"/>
            </a:xfrm>
          </p:grpSpPr>
          <p:sp>
            <p:nvSpPr>
              <p:cNvPr id="1077" name="Line 8"/>
              <p:cNvSpPr/>
              <p:nvPr/>
            </p:nvSpPr>
            <p:spPr>
              <a:xfrm>
                <a:off x="3011400" y="2755800"/>
                <a:ext cx="719640" cy="153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 txBox="1"/>
              <p:nvPr/>
            </p:nvSpPr>
            <p:spPr>
              <a:xfrm>
                <a:off x="3011400" y="2755800"/>
                <a:ext cx="719640" cy="153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3025440" y="2756880"/>
              <a:ext cx="1438560" cy="1532520"/>
              <a:chOff x="3025440" y="2756880"/>
              <a:chExt cx="1438560" cy="1532520"/>
            </a:xfrm>
          </p:grpSpPr>
          <p:sp>
            <p:nvSpPr>
              <p:cNvPr id="1080" name="Line 9"/>
              <p:cNvSpPr/>
              <p:nvPr/>
            </p:nvSpPr>
            <p:spPr>
              <a:xfrm>
                <a:off x="3025440" y="2756880"/>
                <a:ext cx="1438560" cy="153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 txBox="1"/>
              <p:nvPr/>
            </p:nvSpPr>
            <p:spPr>
              <a:xfrm>
                <a:off x="3025440" y="2756880"/>
                <a:ext cx="1438560" cy="153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3007800" y="2776680"/>
              <a:ext cx="720" cy="1510920"/>
              <a:chOff x="3007800" y="2776680"/>
              <a:chExt cx="720" cy="1510920"/>
            </a:xfrm>
          </p:grpSpPr>
          <p:sp>
            <p:nvSpPr>
              <p:cNvPr id="1083" name="Line 10"/>
              <p:cNvSpPr/>
              <p:nvPr/>
            </p:nvSpPr>
            <p:spPr>
              <a:xfrm flipV="1">
                <a:off x="3008160" y="2776680"/>
                <a:ext cx="360" cy="1510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 txBox="1"/>
              <p:nvPr/>
            </p:nvSpPr>
            <p:spPr>
              <a:xfrm rot="10800000">
                <a:off x="3007800" y="2776680"/>
                <a:ext cx="360" cy="151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5" name="Group 11"/>
          <p:cNvGrpSpPr/>
          <p:nvPr/>
        </p:nvGrpSpPr>
        <p:grpSpPr>
          <a:xfrm>
            <a:off x="3019320" y="4146480"/>
            <a:ext cx="142920" cy="142920"/>
            <a:chOff x="3019320" y="4146480"/>
            <a:chExt cx="142920" cy="142920"/>
          </a:xfrm>
        </p:grpSpPr>
        <p:grpSp>
          <p:nvGrpSpPr>
            <p:cNvPr id="1086" name=""/>
            <p:cNvGrpSpPr/>
            <p:nvPr/>
          </p:nvGrpSpPr>
          <p:grpSpPr>
            <a:xfrm>
              <a:off x="3019320" y="4146480"/>
              <a:ext cx="142920" cy="360"/>
              <a:chOff x="3019320" y="4146480"/>
              <a:chExt cx="142920" cy="360"/>
            </a:xfrm>
          </p:grpSpPr>
          <p:sp>
            <p:nvSpPr>
              <p:cNvPr id="1087" name="Line 12"/>
              <p:cNvSpPr/>
              <p:nvPr/>
            </p:nvSpPr>
            <p:spPr>
              <a:xfrm>
                <a:off x="3019320" y="4146480"/>
                <a:ext cx="142920" cy="36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 txBox="1"/>
              <p:nvPr/>
            </p:nvSpPr>
            <p:spPr>
              <a:xfrm>
                <a:off x="3019320" y="414648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3152880" y="4146480"/>
              <a:ext cx="360" cy="142920"/>
              <a:chOff x="3152880" y="4146480"/>
              <a:chExt cx="360" cy="142920"/>
            </a:xfrm>
          </p:grpSpPr>
          <p:sp>
            <p:nvSpPr>
              <p:cNvPr id="1090" name="Line 13"/>
              <p:cNvSpPr/>
              <p:nvPr/>
            </p:nvSpPr>
            <p:spPr>
              <a:xfrm>
                <a:off x="3152880" y="4146480"/>
                <a:ext cx="360" cy="142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 txBox="1"/>
              <p:nvPr/>
            </p:nvSpPr>
            <p:spPr>
              <a:xfrm>
                <a:off x="3152880" y="414648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2" name="Group 14"/>
          <p:cNvGrpSpPr/>
          <p:nvPr/>
        </p:nvGrpSpPr>
        <p:grpSpPr>
          <a:xfrm>
            <a:off x="4606920" y="2449440"/>
            <a:ext cx="2876040" cy="520560"/>
            <a:chOff x="4606920" y="2449440"/>
            <a:chExt cx="2876040" cy="520560"/>
          </a:xfrm>
        </p:grpSpPr>
        <p:sp>
          <p:nvSpPr>
            <p:cNvPr id="1093" name="Text Box 15"/>
            <p:cNvSpPr/>
            <p:nvPr/>
          </p:nvSpPr>
          <p:spPr>
            <a:xfrm>
              <a:off x="6954840" y="2449440"/>
              <a:ext cx="52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线段最短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4606920" y="2904840"/>
              <a:ext cx="1511640" cy="360"/>
              <a:chOff x="4606920" y="2904840"/>
              <a:chExt cx="1511640" cy="360"/>
            </a:xfrm>
          </p:grpSpPr>
          <p:sp>
            <p:nvSpPr>
              <p:cNvPr id="1095" name="Line 16"/>
              <p:cNvSpPr/>
              <p:nvPr/>
            </p:nvSpPr>
            <p:spPr>
              <a:xfrm>
                <a:off x="4606920" y="2904840"/>
                <a:ext cx="151164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 txBox="1"/>
              <p:nvPr/>
            </p:nvSpPr>
            <p:spPr>
              <a:xfrm>
                <a:off x="4606920" y="2904840"/>
                <a:ext cx="151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7" name="AutoShape 17"/>
          <p:cNvSpPr/>
          <p:nvPr/>
        </p:nvSpPr>
        <p:spPr>
          <a:xfrm>
            <a:off x="4429080" y="2346480"/>
            <a:ext cx="3743280" cy="720720"/>
          </a:xfrm>
          <a:prstGeom prst="wedgeRoundRectCallout">
            <a:avLst>
              <a:gd name="adj1" fmla="val 38685"/>
              <a:gd name="adj2" fmla="val 7883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18"/>
          <p:cNvSpPr/>
          <p:nvPr/>
        </p:nvSpPr>
        <p:spPr>
          <a:xfrm>
            <a:off x="2809440" y="2239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EU-B1X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19"/>
          <p:cNvSpPr/>
          <p:nvPr/>
        </p:nvSpPr>
        <p:spPr>
          <a:xfrm>
            <a:off x="2049120" y="4819680"/>
            <a:ext cx="4798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结论：从直线外一点到这条直线所画的垂直线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最短，它的长度叫做这点到直线的</a:t>
            </a:r>
            <a:r>
              <a:rPr b="1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距离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32"/>
          <p:cNvSpPr/>
          <p:nvPr/>
        </p:nvSpPr>
        <p:spPr>
          <a:xfrm>
            <a:off x="5031000" y="2430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垂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八边形 7"/>
          <p:cNvSpPr/>
          <p:nvPr/>
        </p:nvSpPr>
        <p:spPr>
          <a:xfrm>
            <a:off x="314280" y="85104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Text Box 2"/>
          <p:cNvSpPr/>
          <p:nvPr/>
        </p:nvSpPr>
        <p:spPr>
          <a:xfrm>
            <a:off x="1954080" y="695160"/>
            <a:ext cx="5769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下图中，</a:t>
            </a: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EU-B1X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∥</a:t>
            </a: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EU-B1X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在</a:t>
            </a: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EU-B1X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上任选几个点，分别向</a:t>
            </a: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EU-B1X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宋体"/>
              </a:rPr>
              <a:t>画垂直的线段。量一量这些线段的长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宋体"/>
              </a:rPr>
              <a:t>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3" name="Group 3"/>
          <p:cNvGrpSpPr/>
          <p:nvPr/>
        </p:nvGrpSpPr>
        <p:grpSpPr>
          <a:xfrm>
            <a:off x="2982960" y="2278080"/>
            <a:ext cx="2971440" cy="2005560"/>
            <a:chOff x="2982960" y="2278080"/>
            <a:chExt cx="2971440" cy="2005560"/>
          </a:xfrm>
        </p:grpSpPr>
        <p:grpSp>
          <p:nvGrpSpPr>
            <p:cNvPr id="1104" name=""/>
            <p:cNvGrpSpPr/>
            <p:nvPr/>
          </p:nvGrpSpPr>
          <p:grpSpPr>
            <a:xfrm>
              <a:off x="2982960" y="2780280"/>
              <a:ext cx="2952000" cy="720"/>
              <a:chOff x="2982960" y="2780280"/>
              <a:chExt cx="2952000" cy="720"/>
            </a:xfrm>
          </p:grpSpPr>
          <p:sp>
            <p:nvSpPr>
              <p:cNvPr id="1105" name="Line 4"/>
              <p:cNvSpPr/>
              <p:nvPr/>
            </p:nvSpPr>
            <p:spPr>
              <a:xfrm>
                <a:off x="2982960" y="2780280"/>
                <a:ext cx="295200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 txBox="1"/>
              <p:nvPr/>
            </p:nvSpPr>
            <p:spPr>
              <a:xfrm>
                <a:off x="2982960" y="2780280"/>
                <a:ext cx="295200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3002400" y="3843360"/>
              <a:ext cx="2952000" cy="360"/>
              <a:chOff x="3002400" y="3843360"/>
              <a:chExt cx="2952000" cy="360"/>
            </a:xfrm>
          </p:grpSpPr>
          <p:sp>
            <p:nvSpPr>
              <p:cNvPr id="1108" name="Line 5"/>
              <p:cNvSpPr/>
              <p:nvPr/>
            </p:nvSpPr>
            <p:spPr>
              <a:xfrm>
                <a:off x="3002400" y="3843360"/>
                <a:ext cx="295200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 txBox="1"/>
              <p:nvPr/>
            </p:nvSpPr>
            <p:spPr>
              <a:xfrm>
                <a:off x="3002400" y="3843360"/>
                <a:ext cx="295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0" name="Text Box 6"/>
            <p:cNvSpPr/>
            <p:nvPr/>
          </p:nvSpPr>
          <p:spPr>
            <a:xfrm>
              <a:off x="4200120" y="2278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EU-B1X"/>
                  <a:ea typeface="EU-B1X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Text Box 7"/>
            <p:cNvSpPr/>
            <p:nvPr/>
          </p:nvSpPr>
          <p:spPr>
            <a:xfrm>
              <a:off x="4218480" y="376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EU-B1X"/>
                  <a:ea typeface="EU-B1X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Group 8"/>
          <p:cNvGrpSpPr/>
          <p:nvPr/>
        </p:nvGrpSpPr>
        <p:grpSpPr>
          <a:xfrm>
            <a:off x="3343320" y="2779560"/>
            <a:ext cx="2173320" cy="1073160"/>
            <a:chOff x="3343320" y="2779560"/>
            <a:chExt cx="2173320" cy="1073160"/>
          </a:xfrm>
        </p:grpSpPr>
        <p:grpSp>
          <p:nvGrpSpPr>
            <p:cNvPr id="1113" name=""/>
            <p:cNvGrpSpPr/>
            <p:nvPr/>
          </p:nvGrpSpPr>
          <p:grpSpPr>
            <a:xfrm>
              <a:off x="3343320" y="2779920"/>
              <a:ext cx="360" cy="1063080"/>
              <a:chOff x="3343320" y="2779920"/>
              <a:chExt cx="360" cy="1063080"/>
            </a:xfrm>
          </p:grpSpPr>
          <p:sp>
            <p:nvSpPr>
              <p:cNvPr id="1114" name="Line 9"/>
              <p:cNvSpPr/>
              <p:nvPr/>
            </p:nvSpPr>
            <p:spPr>
              <a:xfrm>
                <a:off x="3343320" y="2779920"/>
                <a:ext cx="360" cy="106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 txBox="1"/>
              <p:nvPr/>
            </p:nvSpPr>
            <p:spPr>
              <a:xfrm>
                <a:off x="3343320" y="2779920"/>
                <a:ext cx="360" cy="106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3762360" y="2789640"/>
              <a:ext cx="720" cy="1063080"/>
              <a:chOff x="3762360" y="2789640"/>
              <a:chExt cx="720" cy="1063080"/>
            </a:xfrm>
          </p:grpSpPr>
          <p:sp>
            <p:nvSpPr>
              <p:cNvPr id="1117" name="Line 10"/>
              <p:cNvSpPr/>
              <p:nvPr/>
            </p:nvSpPr>
            <p:spPr>
              <a:xfrm>
                <a:off x="3762360" y="2789640"/>
                <a:ext cx="720" cy="106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 txBox="1"/>
              <p:nvPr/>
            </p:nvSpPr>
            <p:spPr>
              <a:xfrm>
                <a:off x="3762360" y="2789640"/>
                <a:ext cx="720" cy="106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4190760" y="2789640"/>
              <a:ext cx="360" cy="1063080"/>
              <a:chOff x="4190760" y="2789640"/>
              <a:chExt cx="360" cy="1063080"/>
            </a:xfrm>
          </p:grpSpPr>
          <p:sp>
            <p:nvSpPr>
              <p:cNvPr id="1120" name="Line 11"/>
              <p:cNvSpPr/>
              <p:nvPr/>
            </p:nvSpPr>
            <p:spPr>
              <a:xfrm>
                <a:off x="4190760" y="2789640"/>
                <a:ext cx="360" cy="106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 txBox="1"/>
              <p:nvPr/>
            </p:nvSpPr>
            <p:spPr>
              <a:xfrm>
                <a:off x="4190760" y="2789640"/>
                <a:ext cx="360" cy="106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4640040" y="2779560"/>
              <a:ext cx="360" cy="1063080"/>
              <a:chOff x="4640040" y="2779560"/>
              <a:chExt cx="360" cy="1063080"/>
            </a:xfrm>
          </p:grpSpPr>
          <p:sp>
            <p:nvSpPr>
              <p:cNvPr id="1123" name="Line 12"/>
              <p:cNvSpPr/>
              <p:nvPr/>
            </p:nvSpPr>
            <p:spPr>
              <a:xfrm>
                <a:off x="4640040" y="2779560"/>
                <a:ext cx="360" cy="106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 txBox="1"/>
              <p:nvPr/>
            </p:nvSpPr>
            <p:spPr>
              <a:xfrm>
                <a:off x="4640040" y="2779560"/>
                <a:ext cx="360" cy="106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5068440" y="2779560"/>
              <a:ext cx="720" cy="1063080"/>
              <a:chOff x="5068440" y="2779560"/>
              <a:chExt cx="720" cy="1063080"/>
            </a:xfrm>
          </p:grpSpPr>
          <p:sp>
            <p:nvSpPr>
              <p:cNvPr id="1126" name="Line 13"/>
              <p:cNvSpPr/>
              <p:nvPr/>
            </p:nvSpPr>
            <p:spPr>
              <a:xfrm>
                <a:off x="5068440" y="2779560"/>
                <a:ext cx="720" cy="106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 txBox="1"/>
              <p:nvPr/>
            </p:nvSpPr>
            <p:spPr>
              <a:xfrm>
                <a:off x="5068440" y="2779560"/>
                <a:ext cx="720" cy="106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8" name=""/>
            <p:cNvGrpSpPr/>
            <p:nvPr/>
          </p:nvGrpSpPr>
          <p:grpSpPr>
            <a:xfrm>
              <a:off x="5516280" y="2779560"/>
              <a:ext cx="360" cy="1063080"/>
              <a:chOff x="5516280" y="2779560"/>
              <a:chExt cx="360" cy="1063080"/>
            </a:xfrm>
          </p:grpSpPr>
          <p:sp>
            <p:nvSpPr>
              <p:cNvPr id="1129" name="Line 14"/>
              <p:cNvSpPr/>
              <p:nvPr/>
            </p:nvSpPr>
            <p:spPr>
              <a:xfrm>
                <a:off x="5516280" y="2779560"/>
                <a:ext cx="360" cy="106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 txBox="1"/>
              <p:nvPr/>
            </p:nvSpPr>
            <p:spPr>
              <a:xfrm>
                <a:off x="5516280" y="2779560"/>
                <a:ext cx="360" cy="106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1" name="Group 15"/>
          <p:cNvGrpSpPr/>
          <p:nvPr/>
        </p:nvGrpSpPr>
        <p:grpSpPr>
          <a:xfrm>
            <a:off x="3346560" y="3693960"/>
            <a:ext cx="2317320" cy="149040"/>
            <a:chOff x="3346560" y="3693960"/>
            <a:chExt cx="2317320" cy="149040"/>
          </a:xfrm>
        </p:grpSpPr>
        <p:grpSp>
          <p:nvGrpSpPr>
            <p:cNvPr id="1132" name="Group 16"/>
            <p:cNvGrpSpPr/>
            <p:nvPr/>
          </p:nvGrpSpPr>
          <p:grpSpPr>
            <a:xfrm>
              <a:off x="3346560" y="3693960"/>
              <a:ext cx="142560" cy="142920"/>
              <a:chOff x="3346560" y="3693960"/>
              <a:chExt cx="142560" cy="142920"/>
            </a:xfrm>
          </p:grpSpPr>
          <p:grpSp>
            <p:nvGrpSpPr>
              <p:cNvPr id="1133" name=""/>
              <p:cNvGrpSpPr/>
              <p:nvPr/>
            </p:nvGrpSpPr>
            <p:grpSpPr>
              <a:xfrm>
                <a:off x="3346560" y="3693960"/>
                <a:ext cx="142560" cy="360"/>
                <a:chOff x="3346560" y="3693960"/>
                <a:chExt cx="142560" cy="360"/>
              </a:xfrm>
            </p:grpSpPr>
            <p:sp>
              <p:nvSpPr>
                <p:cNvPr id="1134" name="Line 17"/>
                <p:cNvSpPr/>
                <p:nvPr/>
              </p:nvSpPr>
              <p:spPr>
                <a:xfrm>
                  <a:off x="3346560" y="3693960"/>
                  <a:ext cx="142560" cy="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 txBox="1"/>
                <p:nvPr/>
              </p:nvSpPr>
              <p:spPr>
                <a:xfrm>
                  <a:off x="3346560" y="369396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3479760" y="3693960"/>
                <a:ext cx="360" cy="142920"/>
                <a:chOff x="3479760" y="3693960"/>
                <a:chExt cx="360" cy="142920"/>
              </a:xfrm>
            </p:grpSpPr>
            <p:sp>
              <p:nvSpPr>
                <p:cNvPr id="1137" name="Line 18"/>
                <p:cNvSpPr/>
                <p:nvPr/>
              </p:nvSpPr>
              <p:spPr>
                <a:xfrm>
                  <a:off x="3479760" y="3693960"/>
                  <a:ext cx="360" cy="1429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 txBox="1"/>
                <p:nvPr/>
              </p:nvSpPr>
              <p:spPr>
                <a:xfrm>
                  <a:off x="3479760" y="3693960"/>
                  <a:ext cx="360" cy="14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9" name="Group 19"/>
            <p:cNvGrpSpPr/>
            <p:nvPr/>
          </p:nvGrpSpPr>
          <p:grpSpPr>
            <a:xfrm>
              <a:off x="3755880" y="3693960"/>
              <a:ext cx="142560" cy="142920"/>
              <a:chOff x="3755880" y="3693960"/>
              <a:chExt cx="142560" cy="142920"/>
            </a:xfrm>
          </p:grpSpPr>
          <p:grpSp>
            <p:nvGrpSpPr>
              <p:cNvPr id="1140" name=""/>
              <p:cNvGrpSpPr/>
              <p:nvPr/>
            </p:nvGrpSpPr>
            <p:grpSpPr>
              <a:xfrm>
                <a:off x="3755880" y="3693960"/>
                <a:ext cx="142560" cy="360"/>
                <a:chOff x="3755880" y="3693960"/>
                <a:chExt cx="142560" cy="360"/>
              </a:xfrm>
            </p:grpSpPr>
            <p:sp>
              <p:nvSpPr>
                <p:cNvPr id="1141" name="Line 20"/>
                <p:cNvSpPr/>
                <p:nvPr/>
              </p:nvSpPr>
              <p:spPr>
                <a:xfrm>
                  <a:off x="3755880" y="3693960"/>
                  <a:ext cx="142560" cy="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 txBox="1"/>
                <p:nvPr/>
              </p:nvSpPr>
              <p:spPr>
                <a:xfrm>
                  <a:off x="3755880" y="369396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3889080" y="3693960"/>
                <a:ext cx="360" cy="142920"/>
                <a:chOff x="3889080" y="3693960"/>
                <a:chExt cx="360" cy="142920"/>
              </a:xfrm>
            </p:grpSpPr>
            <p:sp>
              <p:nvSpPr>
                <p:cNvPr id="1144" name="Line 21"/>
                <p:cNvSpPr/>
                <p:nvPr/>
              </p:nvSpPr>
              <p:spPr>
                <a:xfrm>
                  <a:off x="3889080" y="3693960"/>
                  <a:ext cx="360" cy="1429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 txBox="1"/>
                <p:nvPr/>
              </p:nvSpPr>
              <p:spPr>
                <a:xfrm>
                  <a:off x="3889080" y="3693960"/>
                  <a:ext cx="360" cy="14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6" name="Group 22"/>
            <p:cNvGrpSpPr/>
            <p:nvPr/>
          </p:nvGrpSpPr>
          <p:grpSpPr>
            <a:xfrm>
              <a:off x="4184640" y="3696840"/>
              <a:ext cx="142560" cy="142920"/>
              <a:chOff x="4184640" y="3696840"/>
              <a:chExt cx="142560" cy="142920"/>
            </a:xfrm>
          </p:grpSpPr>
          <p:grpSp>
            <p:nvGrpSpPr>
              <p:cNvPr id="1147" name=""/>
              <p:cNvGrpSpPr/>
              <p:nvPr/>
            </p:nvGrpSpPr>
            <p:grpSpPr>
              <a:xfrm>
                <a:off x="4184640" y="3696840"/>
                <a:ext cx="142560" cy="360"/>
                <a:chOff x="4184640" y="3696840"/>
                <a:chExt cx="142560" cy="360"/>
              </a:xfrm>
            </p:grpSpPr>
            <p:sp>
              <p:nvSpPr>
                <p:cNvPr id="1148" name="Line 23"/>
                <p:cNvSpPr/>
                <p:nvPr/>
              </p:nvSpPr>
              <p:spPr>
                <a:xfrm>
                  <a:off x="4184640" y="3696840"/>
                  <a:ext cx="142560" cy="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 txBox="1"/>
                <p:nvPr/>
              </p:nvSpPr>
              <p:spPr>
                <a:xfrm>
                  <a:off x="4184640" y="369684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0" name=""/>
              <p:cNvGrpSpPr/>
              <p:nvPr/>
            </p:nvGrpSpPr>
            <p:grpSpPr>
              <a:xfrm>
                <a:off x="4317840" y="3696840"/>
                <a:ext cx="360" cy="142920"/>
                <a:chOff x="4317840" y="3696840"/>
                <a:chExt cx="360" cy="142920"/>
              </a:xfrm>
            </p:grpSpPr>
            <p:sp>
              <p:nvSpPr>
                <p:cNvPr id="1151" name="Line 24"/>
                <p:cNvSpPr/>
                <p:nvPr/>
              </p:nvSpPr>
              <p:spPr>
                <a:xfrm>
                  <a:off x="4317840" y="3696840"/>
                  <a:ext cx="360" cy="1429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 txBox="1"/>
                <p:nvPr/>
              </p:nvSpPr>
              <p:spPr>
                <a:xfrm>
                  <a:off x="4317840" y="3696840"/>
                  <a:ext cx="360" cy="14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3" name="Group 25"/>
            <p:cNvGrpSpPr/>
            <p:nvPr/>
          </p:nvGrpSpPr>
          <p:grpSpPr>
            <a:xfrm>
              <a:off x="4632480" y="3700080"/>
              <a:ext cx="142560" cy="142920"/>
              <a:chOff x="4632480" y="3700080"/>
              <a:chExt cx="142560" cy="142920"/>
            </a:xfrm>
          </p:grpSpPr>
          <p:grpSp>
            <p:nvGrpSpPr>
              <p:cNvPr id="1154" name=""/>
              <p:cNvGrpSpPr/>
              <p:nvPr/>
            </p:nvGrpSpPr>
            <p:grpSpPr>
              <a:xfrm>
                <a:off x="4632480" y="3700080"/>
                <a:ext cx="142560" cy="360"/>
                <a:chOff x="4632480" y="3700080"/>
                <a:chExt cx="142560" cy="360"/>
              </a:xfrm>
            </p:grpSpPr>
            <p:sp>
              <p:nvSpPr>
                <p:cNvPr id="1155" name="Line 26"/>
                <p:cNvSpPr/>
                <p:nvPr/>
              </p:nvSpPr>
              <p:spPr>
                <a:xfrm>
                  <a:off x="4632480" y="3700080"/>
                  <a:ext cx="142560" cy="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 txBox="1"/>
                <p:nvPr/>
              </p:nvSpPr>
              <p:spPr>
                <a:xfrm>
                  <a:off x="4632480" y="370008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4765680" y="3700080"/>
                <a:ext cx="360" cy="142920"/>
                <a:chOff x="4765680" y="3700080"/>
                <a:chExt cx="360" cy="142920"/>
              </a:xfrm>
            </p:grpSpPr>
            <p:sp>
              <p:nvSpPr>
                <p:cNvPr id="1158" name="Line 27"/>
                <p:cNvSpPr/>
                <p:nvPr/>
              </p:nvSpPr>
              <p:spPr>
                <a:xfrm>
                  <a:off x="4765680" y="3700080"/>
                  <a:ext cx="360" cy="1429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 txBox="1"/>
                <p:nvPr/>
              </p:nvSpPr>
              <p:spPr>
                <a:xfrm>
                  <a:off x="4765680" y="3700080"/>
                  <a:ext cx="360" cy="14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0" name="Group 28"/>
            <p:cNvGrpSpPr/>
            <p:nvPr/>
          </p:nvGrpSpPr>
          <p:grpSpPr>
            <a:xfrm>
              <a:off x="5070600" y="3693960"/>
              <a:ext cx="142920" cy="142920"/>
              <a:chOff x="5070600" y="3693960"/>
              <a:chExt cx="142920" cy="142920"/>
            </a:xfrm>
          </p:grpSpPr>
          <p:grpSp>
            <p:nvGrpSpPr>
              <p:cNvPr id="1161" name=""/>
              <p:cNvGrpSpPr/>
              <p:nvPr/>
            </p:nvGrpSpPr>
            <p:grpSpPr>
              <a:xfrm>
                <a:off x="5070600" y="3693960"/>
                <a:ext cx="142920" cy="360"/>
                <a:chOff x="5070600" y="3693960"/>
                <a:chExt cx="142920" cy="360"/>
              </a:xfrm>
            </p:grpSpPr>
            <p:sp>
              <p:nvSpPr>
                <p:cNvPr id="1162" name="Line 29"/>
                <p:cNvSpPr/>
                <p:nvPr/>
              </p:nvSpPr>
              <p:spPr>
                <a:xfrm>
                  <a:off x="5070600" y="3693960"/>
                  <a:ext cx="142920" cy="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 txBox="1"/>
                <p:nvPr/>
              </p:nvSpPr>
              <p:spPr>
                <a:xfrm>
                  <a:off x="5070600" y="369396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4" name=""/>
              <p:cNvGrpSpPr/>
              <p:nvPr/>
            </p:nvGrpSpPr>
            <p:grpSpPr>
              <a:xfrm>
                <a:off x="5204160" y="3693960"/>
                <a:ext cx="360" cy="142920"/>
                <a:chOff x="5204160" y="3693960"/>
                <a:chExt cx="360" cy="142920"/>
              </a:xfrm>
            </p:grpSpPr>
            <p:sp>
              <p:nvSpPr>
                <p:cNvPr id="1165" name="Line 30"/>
                <p:cNvSpPr/>
                <p:nvPr/>
              </p:nvSpPr>
              <p:spPr>
                <a:xfrm>
                  <a:off x="5204160" y="3693960"/>
                  <a:ext cx="360" cy="1429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 txBox="1"/>
                <p:nvPr/>
              </p:nvSpPr>
              <p:spPr>
                <a:xfrm>
                  <a:off x="5204160" y="3693960"/>
                  <a:ext cx="360" cy="14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7" name="Group 31"/>
            <p:cNvGrpSpPr/>
            <p:nvPr/>
          </p:nvGrpSpPr>
          <p:grpSpPr>
            <a:xfrm>
              <a:off x="5521320" y="3696840"/>
              <a:ext cx="142560" cy="142920"/>
              <a:chOff x="5521320" y="3696840"/>
              <a:chExt cx="142560" cy="14292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5521320" y="3696840"/>
                <a:ext cx="142560" cy="360"/>
                <a:chOff x="5521320" y="3696840"/>
                <a:chExt cx="142560" cy="360"/>
              </a:xfrm>
            </p:grpSpPr>
            <p:sp>
              <p:nvSpPr>
                <p:cNvPr id="1169" name="Line 32"/>
                <p:cNvSpPr/>
                <p:nvPr/>
              </p:nvSpPr>
              <p:spPr>
                <a:xfrm>
                  <a:off x="5521320" y="3696840"/>
                  <a:ext cx="142560" cy="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 txBox="1"/>
                <p:nvPr/>
              </p:nvSpPr>
              <p:spPr>
                <a:xfrm>
                  <a:off x="5521320" y="369684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"/>
              <p:cNvGrpSpPr/>
              <p:nvPr/>
            </p:nvGrpSpPr>
            <p:grpSpPr>
              <a:xfrm>
                <a:off x="5654520" y="3696840"/>
                <a:ext cx="360" cy="142920"/>
                <a:chOff x="5654520" y="3696840"/>
                <a:chExt cx="360" cy="142920"/>
              </a:xfrm>
            </p:grpSpPr>
            <p:sp>
              <p:nvSpPr>
                <p:cNvPr id="1172" name="Line 33"/>
                <p:cNvSpPr/>
                <p:nvPr/>
              </p:nvSpPr>
              <p:spPr>
                <a:xfrm>
                  <a:off x="5654520" y="3696840"/>
                  <a:ext cx="360" cy="1429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 txBox="1"/>
                <p:nvPr/>
              </p:nvSpPr>
              <p:spPr>
                <a:xfrm>
                  <a:off x="5654520" y="3696840"/>
                  <a:ext cx="360" cy="14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4" name="Group 34"/>
          <p:cNvGrpSpPr/>
          <p:nvPr/>
        </p:nvGrpSpPr>
        <p:grpSpPr>
          <a:xfrm>
            <a:off x="2052720" y="4292640"/>
            <a:ext cx="6113520" cy="1962000"/>
            <a:chOff x="2052720" y="4292640"/>
            <a:chExt cx="6113520" cy="1962000"/>
          </a:xfrm>
        </p:grpSpPr>
        <p:pic>
          <p:nvPicPr>
            <p:cNvPr id="1175" name="Picture 35" descr="E:\2017秋上·黄倩\其他\人\蜜蜂.gif蜜蜂"/>
            <p:cNvPicPr/>
            <p:nvPr/>
          </p:nvPicPr>
          <p:blipFill>
            <a:blip r:embed="rId1"/>
            <a:stretch/>
          </p:blipFill>
          <p:spPr>
            <a:xfrm>
              <a:off x="7301520" y="5301720"/>
              <a:ext cx="864720" cy="952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6" name="Group 36"/>
            <p:cNvGrpSpPr/>
            <p:nvPr/>
          </p:nvGrpSpPr>
          <p:grpSpPr>
            <a:xfrm>
              <a:off x="3024360" y="4365000"/>
              <a:ext cx="3885840" cy="898200"/>
              <a:chOff x="3024360" y="4365000"/>
              <a:chExt cx="3885840" cy="898200"/>
            </a:xfrm>
          </p:grpSpPr>
          <p:sp>
            <p:nvSpPr>
              <p:cNvPr id="1177" name="Text Box 37"/>
              <p:cNvSpPr/>
              <p:nvPr/>
            </p:nvSpPr>
            <p:spPr>
              <a:xfrm>
                <a:off x="3024360" y="4365000"/>
                <a:ext cx="3643200" cy="89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端点分别在两条平行线上，且与平行线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垂直的所有线段的长度都                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8" name=""/>
              <p:cNvGrpSpPr/>
              <p:nvPr/>
            </p:nvGrpSpPr>
            <p:grpSpPr>
              <a:xfrm>
                <a:off x="5614560" y="5157360"/>
                <a:ext cx="1295640" cy="360"/>
                <a:chOff x="5614560" y="5157360"/>
                <a:chExt cx="1295640" cy="360"/>
              </a:xfrm>
            </p:grpSpPr>
            <p:sp>
              <p:nvSpPr>
                <p:cNvPr id="1179" name="Line 38"/>
                <p:cNvSpPr/>
                <p:nvPr/>
              </p:nvSpPr>
              <p:spPr>
                <a:xfrm>
                  <a:off x="5614560" y="5157360"/>
                  <a:ext cx="1295640" cy="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 txBox="1"/>
                <p:nvPr/>
              </p:nvSpPr>
              <p:spPr>
                <a:xfrm>
                  <a:off x="5614560" y="5157360"/>
                  <a:ext cx="1295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1" name="AutoShape 39"/>
            <p:cNvSpPr/>
            <p:nvPr/>
          </p:nvSpPr>
          <p:spPr>
            <a:xfrm>
              <a:off x="2052720" y="4292640"/>
              <a:ext cx="5543280" cy="1009080"/>
            </a:xfrm>
            <a:prstGeom prst="wedgeRoundRectCallout">
              <a:avLst>
                <a:gd name="adj1" fmla="val 44046"/>
                <a:gd name="adj2" fmla="val 766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Text Box 32"/>
          <p:cNvSpPr/>
          <p:nvPr/>
        </p:nvSpPr>
        <p:spPr>
          <a:xfrm>
            <a:off x="5870160" y="4737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 Box 5"/>
          <p:cNvSpPr/>
          <p:nvPr/>
        </p:nvSpPr>
        <p:spPr>
          <a:xfrm>
            <a:off x="1685880" y="1125360"/>
            <a:ext cx="3531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右图中，小明如果从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EU-B1X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EU-B1X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路，怎样走路线最短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最短的路线画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Group 6"/>
          <p:cNvGrpSpPr/>
          <p:nvPr/>
        </p:nvGrpSpPr>
        <p:grpSpPr>
          <a:xfrm>
            <a:off x="6516720" y="1270080"/>
            <a:ext cx="1665360" cy="1842480"/>
            <a:chOff x="6516720" y="1270080"/>
            <a:chExt cx="1665360" cy="1842480"/>
          </a:xfrm>
        </p:grpSpPr>
        <p:grpSp>
          <p:nvGrpSpPr>
            <p:cNvPr id="1185" name=""/>
            <p:cNvGrpSpPr/>
            <p:nvPr/>
          </p:nvGrpSpPr>
          <p:grpSpPr>
            <a:xfrm>
              <a:off x="6516720" y="1270080"/>
              <a:ext cx="1656000" cy="360"/>
              <a:chOff x="6516720" y="1270080"/>
              <a:chExt cx="1656000" cy="360"/>
            </a:xfrm>
          </p:grpSpPr>
          <p:sp>
            <p:nvSpPr>
              <p:cNvPr id="1186" name="Line 7"/>
              <p:cNvSpPr/>
              <p:nvPr/>
            </p:nvSpPr>
            <p:spPr>
              <a:xfrm>
                <a:off x="6516720" y="1270080"/>
                <a:ext cx="165600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 txBox="1"/>
              <p:nvPr/>
            </p:nvSpPr>
            <p:spPr>
              <a:xfrm>
                <a:off x="6516720" y="1270080"/>
                <a:ext cx="165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6526080" y="2651760"/>
              <a:ext cx="1656000" cy="360"/>
              <a:chOff x="6526080" y="2651760"/>
              <a:chExt cx="1656000" cy="360"/>
            </a:xfrm>
          </p:grpSpPr>
          <p:sp>
            <p:nvSpPr>
              <p:cNvPr id="1189" name="Line 8"/>
              <p:cNvSpPr/>
              <p:nvPr/>
            </p:nvSpPr>
            <p:spPr>
              <a:xfrm>
                <a:off x="6526080" y="2651760"/>
                <a:ext cx="165600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 txBox="1"/>
              <p:nvPr/>
            </p:nvSpPr>
            <p:spPr>
              <a:xfrm>
                <a:off x="6526080" y="2651760"/>
                <a:ext cx="165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9"/>
            <p:cNvGrpSpPr/>
            <p:nvPr/>
          </p:nvGrpSpPr>
          <p:grpSpPr>
            <a:xfrm>
              <a:off x="6732360" y="1413360"/>
              <a:ext cx="1295280" cy="1123920"/>
              <a:chOff x="6732360" y="1413360"/>
              <a:chExt cx="1295280" cy="1123920"/>
            </a:xfrm>
          </p:grpSpPr>
          <p:sp>
            <p:nvSpPr>
              <p:cNvPr id="1192" name="Rectangle 10"/>
              <p:cNvSpPr/>
              <p:nvPr/>
            </p:nvSpPr>
            <p:spPr>
              <a:xfrm>
                <a:off x="6732360" y="1413360"/>
                <a:ext cx="1295280" cy="143280"/>
              </a:xfrm>
              <a:prstGeom prst="rect">
                <a:avLst/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Rectangle 11"/>
              <p:cNvSpPr/>
              <p:nvPr/>
            </p:nvSpPr>
            <p:spPr>
              <a:xfrm>
                <a:off x="6732360" y="1651320"/>
                <a:ext cx="1295280" cy="143280"/>
              </a:xfrm>
              <a:prstGeom prst="rect">
                <a:avLst/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Rectangle 12"/>
              <p:cNvSpPr/>
              <p:nvPr/>
            </p:nvSpPr>
            <p:spPr>
              <a:xfrm>
                <a:off x="6732360" y="1916640"/>
                <a:ext cx="1295280" cy="143280"/>
              </a:xfrm>
              <a:prstGeom prst="rect">
                <a:avLst/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Rectangle 13"/>
              <p:cNvSpPr/>
              <p:nvPr/>
            </p:nvSpPr>
            <p:spPr>
              <a:xfrm>
                <a:off x="6732360" y="2165760"/>
                <a:ext cx="1295280" cy="143280"/>
              </a:xfrm>
              <a:prstGeom prst="rect">
                <a:avLst/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Rectangle 14"/>
              <p:cNvSpPr/>
              <p:nvPr/>
            </p:nvSpPr>
            <p:spPr>
              <a:xfrm>
                <a:off x="6732360" y="2394000"/>
                <a:ext cx="1295280" cy="143280"/>
              </a:xfrm>
              <a:prstGeom prst="rect">
                <a:avLst/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7" name="Oval 15"/>
            <p:cNvSpPr/>
            <p:nvPr/>
          </p:nvSpPr>
          <p:spPr>
            <a:xfrm>
              <a:off x="6955200" y="2603520"/>
              <a:ext cx="89280" cy="89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Text Box 16"/>
            <p:cNvSpPr/>
            <p:nvPr/>
          </p:nvSpPr>
          <p:spPr>
            <a:xfrm>
              <a:off x="6879240" y="25920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EU-B1X"/>
                  <a:ea typeface="EU-B1X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9" name="Text Box 17"/>
          <p:cNvSpPr/>
          <p:nvPr/>
        </p:nvSpPr>
        <p:spPr>
          <a:xfrm>
            <a:off x="1942200" y="3125880"/>
            <a:ext cx="4986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请用在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发现的规律，检验下面各组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EU-B1X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EU-B1X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否互相平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0" name="Picture 18" descr="91"/>
          <p:cNvPicPr/>
          <p:nvPr/>
        </p:nvPicPr>
        <p:blipFill>
          <a:blip r:embed="rId1"/>
          <a:stretch/>
        </p:blipFill>
        <p:spPr>
          <a:xfrm>
            <a:off x="1332000" y="4294080"/>
            <a:ext cx="5904000" cy="1741680"/>
          </a:xfrm>
          <a:prstGeom prst="rect">
            <a:avLst/>
          </a:prstGeom>
          <a:ln w="0">
            <a:noFill/>
          </a:ln>
        </p:spPr>
      </p:pic>
      <p:grpSp>
        <p:nvGrpSpPr>
          <p:cNvPr id="1201" name=""/>
          <p:cNvGrpSpPr/>
          <p:nvPr/>
        </p:nvGrpSpPr>
        <p:grpSpPr>
          <a:xfrm>
            <a:off x="7000920" y="1285920"/>
            <a:ext cx="360" cy="1357200"/>
            <a:chOff x="7000920" y="1285920"/>
            <a:chExt cx="360" cy="1357200"/>
          </a:xfrm>
        </p:grpSpPr>
        <p:sp>
          <p:nvSpPr>
            <p:cNvPr id="1202" name="Line 9"/>
            <p:cNvSpPr/>
            <p:nvPr/>
          </p:nvSpPr>
          <p:spPr>
            <a:xfrm>
              <a:off x="7000920" y="1285920"/>
              <a:ext cx="0" cy="1357200"/>
            </a:xfrm>
            <a:prstGeom prst="line">
              <a:avLst/>
            </a:prstGeom>
            <a:ln w="2556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 txBox="1"/>
            <p:nvPr/>
          </p:nvSpPr>
          <p:spPr>
            <a:xfrm>
              <a:off x="7000920" y="1285920"/>
              <a:ext cx="360" cy="13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7000920" y="2500200"/>
            <a:ext cx="142920" cy="360"/>
            <a:chOff x="7000920" y="2500200"/>
            <a:chExt cx="142920" cy="360"/>
          </a:xfrm>
        </p:grpSpPr>
        <p:sp>
          <p:nvSpPr>
            <p:cNvPr id="1205" name="Line 32"/>
            <p:cNvSpPr/>
            <p:nvPr/>
          </p:nvSpPr>
          <p:spPr>
            <a:xfrm>
              <a:off x="7000920" y="2500200"/>
              <a:ext cx="142920" cy="0"/>
            </a:xfrm>
            <a:prstGeom prst="line">
              <a:avLst/>
            </a:prstGeom>
            <a:ln w="2556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 txBox="1"/>
            <p:nvPr/>
          </p:nvSpPr>
          <p:spPr>
            <a:xfrm>
              <a:off x="7000920" y="2500200"/>
              <a:ext cx="14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7134120" y="2500200"/>
            <a:ext cx="1800" cy="142920"/>
            <a:chOff x="7134120" y="2500200"/>
            <a:chExt cx="1800" cy="142920"/>
          </a:xfrm>
        </p:grpSpPr>
        <p:sp>
          <p:nvSpPr>
            <p:cNvPr id="1208" name="Line 33"/>
            <p:cNvSpPr/>
            <p:nvPr/>
          </p:nvSpPr>
          <p:spPr>
            <a:xfrm>
              <a:off x="7134120" y="2500200"/>
              <a:ext cx="1800" cy="142920"/>
            </a:xfrm>
            <a:prstGeom prst="line">
              <a:avLst/>
            </a:prstGeom>
            <a:ln w="2556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 txBox="1"/>
            <p:nvPr/>
          </p:nvSpPr>
          <p:spPr>
            <a:xfrm>
              <a:off x="7134120" y="2500200"/>
              <a:ext cx="180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11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13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4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5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6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7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8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9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0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1" name="Rectangle 64"/>
          <p:cNvSpPr/>
          <p:nvPr/>
        </p:nvSpPr>
        <p:spPr>
          <a:xfrm>
            <a:off x="600120" y="179280"/>
            <a:ext cx="2502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2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25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6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33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Box 32"/>
          <p:cNvSpPr/>
          <p:nvPr/>
        </p:nvSpPr>
        <p:spPr>
          <a:xfrm>
            <a:off x="365040" y="992160"/>
            <a:ext cx="8448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画垂线有两个重合：一是三角尺的一条直角边与已知直线重合，二是点在直线上时，三角尺的顶点与这一点重合，点在直线外时，三角尺的另一条直线边经过这一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从直线外一点到这条直线所画的线段中垂直线段最短，它的长度叫做这点到直线的距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利用两条平行线间与两条平行线相互垂直的线段长度相等的性质，可以检验两条直线是否互相平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3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7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38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46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五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文本框 99"/>
          <p:cNvSpPr/>
          <p:nvPr/>
        </p:nvSpPr>
        <p:spPr>
          <a:xfrm>
            <a:off x="279360" y="900000"/>
            <a:ext cx="797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判断题。（对的打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"√"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错的打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"×"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同一平面内不相交的两条直线叫做平行线。 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条平行线之间只能作一条垂线。           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面内两条直线不垂直就一定平行。         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条平行线间的距离处处相等。             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文本框 1"/>
          <p:cNvSpPr/>
          <p:nvPr/>
        </p:nvSpPr>
        <p:spPr>
          <a:xfrm>
            <a:off x="7388280" y="3271680"/>
            <a:ext cx="3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文本框 2"/>
          <p:cNvSpPr/>
          <p:nvPr/>
        </p:nvSpPr>
        <p:spPr>
          <a:xfrm>
            <a:off x="7331040" y="216684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文本框 3"/>
          <p:cNvSpPr/>
          <p:nvPr/>
        </p:nvSpPr>
        <p:spPr>
          <a:xfrm>
            <a:off x="7331040" y="269388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文本框 4"/>
          <p:cNvSpPr/>
          <p:nvPr/>
        </p:nvSpPr>
        <p:spPr>
          <a:xfrm>
            <a:off x="7373880" y="161280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5T05:56:24Z</dcterms:created>
  <dc:creator/>
  <dc:description/>
  <dc:language>en-US</dc:language>
  <cp:lastModifiedBy>万润仪器贸易公司</cp:lastModifiedBy>
  <dcterms:modified xsi:type="dcterms:W3CDTF">2020-08-21T08:57:21Z</dcterms:modified>
  <cp:revision>7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